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BCB69-33EB-4CCA-8B05-D7F3924CB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DC46B-03D9-418D-BAD6-F7FB1E96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4E6C5-E0F6-4373-AC44-4158D96F4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14EA7-A759-4C5D-B2E0-BAB7F3C15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F963-2247-4B49-B6D1-E5F4E0E1D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6859E-4554-4072-B757-D41DA1A02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1456-EB96-49F9-95C8-D1FA437B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FB2A7-BE05-4487-A0D9-6D30A855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363CC-6003-41E5-88D8-DE09C405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9AA1-F7A4-4552-BCFE-F9655BF1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B049-8E33-4BE8-8C58-EA2B29112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D521-BC1B-4E46-ADAF-147AAF3E7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EB85-7106-4843-87B1-06CD7765E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ay there was a baby leopard named Briana. She loved going to the forest after school.Sometimes she didn’t go alone.When she was alone she felt lonely.When she had friends they played hide and seek at the forest.</a:t>
            </a:r>
            <a:endParaRPr b="0" lang="en-US" sz="2800" spc="-1" strike="noStrike">
              <a:solidFill>
                <a:srgbClr val="000000"/>
              </a:solidFill>
              <a:latin typeface="Arial"/>
            </a:endParaRPr>
          </a:p>
        </p:txBody>
      </p:sp>
      <p:pic>
        <p:nvPicPr>
          <p:cNvPr id="44"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Briana was playing in the forest alone and she saw a lion.She tried to be quiet but she ran in to a tree.She was running and tried to run faster but she twisted her right paw.Then the lion bit her where she twisted her paw . She didn’t know that the lion was tame.He only bit her because he wanted to play something with h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53316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n’t have any choice but to bite her.At least that’s what he said.</a:t>
            </a:r>
            <a:endParaRPr b="0" lang="en-US" sz="2800" spc="-1" strike="noStrike">
              <a:solidFill>
                <a:srgbClr val="000000"/>
              </a:solidFill>
              <a:latin typeface="Arial"/>
            </a:endParaRPr>
          </a:p>
        </p:txBody>
      </p:sp>
      <p:pic>
        <p:nvPicPr>
          <p:cNvPr id="48"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s when she found  out that the lion was actually tame.</a:t>
            </a:r>
            <a:endParaRPr b="0" lang="en-US" sz="2800" spc="-1" strike="noStrike">
              <a:solidFill>
                <a:srgbClr val="000000"/>
              </a:solidFill>
              <a:latin typeface="Arial"/>
            </a:endParaRPr>
          </a:p>
        </p:txBody>
      </p:sp>
      <p:pic>
        <p:nvPicPr>
          <p:cNvPr id="50"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took briana home then too the hospital.</a:t>
            </a:r>
            <a:endParaRPr b="0" lang="en-US" sz="2800" spc="-1" strike="noStrike">
              <a:solidFill>
                <a:srgbClr val="000000"/>
              </a:solidFill>
              <a:latin typeface="Arial"/>
            </a:endParaRPr>
          </a:p>
        </p:txBody>
      </p:sp>
      <p:pic>
        <p:nvPicPr>
          <p:cNvPr id="52"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 leopard </a:t>
            </a:r>
            <a:endParaRPr b="0" lang="en-US" sz="2800" spc="-1" strike="noStrike">
              <a:solidFill>
                <a:srgbClr val="000000"/>
              </a:solidFill>
              <a:latin typeface="Arial"/>
            </a:endParaRPr>
          </a:p>
        </p:txBody>
      </p:sp>
      <p:pic>
        <p:nvPicPr>
          <p:cNvPr id="54"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7960" y="762120"/>
            <a:ext cx="380988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685440" y="837720"/>
            <a:ext cx="38098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2:44:07Z</dcterms:created>
  <dc:creator>UFT TC</dc:creator>
  <dc:description/>
  <dc:language>en-US</dc:language>
  <cp:lastModifiedBy>UFT TC</cp:lastModifiedBy>
  <dcterms:modified xsi:type="dcterms:W3CDTF">2010-04-23T15:22:53Z</dcterms:modified>
  <cp:revision>5</cp:revision>
  <dc:subject/>
  <dc:title>PowerPoint Presentation</dc:title>
</cp:coreProperties>
</file>